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321-FD1A-4E41-AAC4-6CCD8E48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58E-B236-4D83-BC4D-4DBBD1DE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1E6-BE56-4C77-A6F5-E1917A40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BF8-CDAC-4EC0-9195-DF8D3C24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BDD8-0CCB-49BD-9E47-9D248236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E8F4-B6E2-4CF8-A53A-F1A32D1C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CB5D-D71D-4736-834B-33F5CCFB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3F72-37ED-4166-80E3-9074984D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38A0-BC25-4959-B71E-68A6EA11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A9B2-088B-4D06-8361-C4FF3BD5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86F6-7CC7-4EF0-8EF9-ACB114F8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F01-F432-46AE-9F75-52BDA80F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B9EE-6ABB-4B9B-9BBB-DD5915AB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1F2E-4391-4E0C-A255-7F5BAEC8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D9EE-649E-461E-A104-99ED39CC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5E4E-E05B-407C-AFD9-F41C0BBD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1935-4109-45D7-8191-0566CD97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6A475-36FC-45F9-981D-CA5A565D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15816-7F57-4295-A1A7-AA16CE7F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E2DD6-C3E2-4042-8323-4D2FD68E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28CFD-43F0-4421-A7C8-D8AC304A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D0217-3BDF-40B6-A522-7B6C12E5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351-8FFE-485E-BD0A-B158E71A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C6572-173F-4AE6-B722-D98A1E8B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56BC0-2C8B-47F2-9CA6-3A7E16E0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67166-3CF4-40DB-AFD7-627ACC5B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71CB5-7837-4244-BB58-23F9EF36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7A685-A147-4DD2-9145-62FE36C0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3D6B5-6674-45DA-A871-1569B182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6827A-7B3D-4D40-9913-B0A08015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5B214-5D9A-48C9-91DD-318C59F6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26757-E434-4E6B-8FFB-9CA50962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979A7-404C-48DB-AEFF-F1CBE7AD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F97-DBB8-4B36-ABB6-93CBCAA8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65A0D-4DAE-4518-AECD-34899D7B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01993-D92F-4651-8CE4-B8921901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363BA-B121-4240-8B9D-174E0436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9984C-5E26-4319-A0FC-B3FA99E8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BB1FD-3C16-423D-A63E-611A41D4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B733-7780-452B-8C9E-AA854169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2C204-81D8-422D-B266-83BE8FFF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7A005-2186-4913-9CDB-E77EC324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CDA07-95E9-4F0D-8FC0-CA11C8EE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3D3CC-B95C-47E7-AC07-449EEC5B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5DE-C49E-4A9E-99B4-FE11AB32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CDAF7-B9A7-4F8E-8C2B-E8A2464F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0FB36-F638-4FE9-ADE0-8A856318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6F7C0-06CD-4B95-9B7B-0AA373A6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735F6-AD7F-4C41-A73A-7701C9BD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BEFFA-7839-4C57-9722-917E54BE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6CCC6-1530-415A-803E-A630C874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8E2F8-0DE0-4899-A0B6-7F607212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32F68-CF38-4762-8056-56297D51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A3607-2F63-4F81-8ED7-7EBAE3DD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AC788-BA59-49D6-A78B-309D9BFE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AF7-DEF2-4597-8BA6-F99439F1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CADB6-319A-4998-AFC8-B80E2A7A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0D512-7BCE-4893-9742-48723765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48303-32CE-40F1-88F8-5160EE6B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DF7A2-7EEE-4B74-91E1-52FB1889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6B734-3AC1-4F8A-826C-88359EE5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CEEA7-12A1-49EF-A414-BA351344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B496F-597A-437B-B3CB-0424BFF3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FF1BF-A8DD-4558-AFF4-E9232CBC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0C178-D5EB-44BA-88CF-E044B923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F2272-EFF8-446B-99FB-F5ED8BCE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123-E1E5-49B1-9FDE-05A864A0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85F46-03CE-4874-8669-D0F575E4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F1E80-E785-4DEC-8FCD-8B48AF2C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18A81-6385-4D22-A351-A420FC16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7CED1-F8BC-412A-8295-C5F0C783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97A68-1DCA-49B4-AC0E-93B2F1F1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84F04-4BC3-4DDC-9028-6EF803C4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A565C-D924-4BED-963E-9E20DABA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3A167-0BD2-4AC2-9F09-569F5844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1532F-DAFD-4E3D-BFA0-EA36107B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AD017-F75B-4F43-9AA9-F8AE2495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9D4-C009-4614-B04C-50585691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5BCDE-6EEF-4EDF-B6FA-A7E3FE9B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525A4-DD3A-40A2-9259-FFF50F5F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30193-9314-4559-89E8-42737246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E3D37-D1E6-44E6-AB41-5FF5F628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CEC88-4A89-4035-9006-3DB85E3B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707B6-F332-4239-A958-19834F6A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802C7-755D-46D0-9145-15E58AC3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1B0B4-829E-4BA6-B783-AA736240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F7B3D-42A4-483B-BE26-381CE4A4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EB2DC-FA12-4EB3-80FD-E792CD4F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B0E-292C-4191-B1AB-9F27D62F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2A858-E4F6-4DF2-A4A5-91D2D5D9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C82F4-A5D7-49C1-89D4-252368E9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B92A4-6D6C-4662-9721-EABC3BBF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A719B-33AE-4B1F-87CE-420BB840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886BA-9727-4B70-A730-26D684E1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C7596-985C-4232-97F9-8C8F08E3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75D82-C2EF-4975-B79B-9D785C1C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BE76-52AB-4E75-802F-8CDF3A603D8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EB64-5F10-4256-BD1D-4B54E3D2229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50DB-B72A-423B-B680-B3DA92BDDD1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EB06-13CD-4F65-9867-299D356DD28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CCF1-D0ED-4B3A-8BD5-F7931E9741D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24FF-351D-47C3-8C32-1DB1D673A35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F846-B965-4FE8-9DF2-94E5E6CDE6D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29FC-32DC-4977-8CC9-003AAF7E2AA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0720" y="1670040"/>
            <a:ext cx="8321760" cy="1920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305920" cy="1938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ОЈНЕ КАРАКТЕРИСТИКЕ  ШЕСТОГОДИШЊАКА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РАД У ПРВОМ РАЗРЕДУ ОСНОВНЕ ШКОЛ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11" descr="RS_Amblem"/>
          <p:cNvPicPr/>
          <p:nvPr/>
        </p:nvPicPr>
        <p:blipFill>
          <a:blip r:embed="rId2"/>
          <a:stretch/>
        </p:blipFill>
        <p:spPr>
          <a:xfrm>
            <a:off x="3938760" y="225360"/>
            <a:ext cx="1206360" cy="23418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6400800" y="63342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Cyrl-B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једор, 2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bs-Cyrl-B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годи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0" y="6303960"/>
            <a:ext cx="5029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ца Тител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пектор – просвјетни савјетник за разредну наста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457200" y="60336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 у оквиру институције тражи своје место тј.жели  да изгради осећај припадности заједнице на којем се у крајњој линији заснива еколошка све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рађивање еколошке свести код деце у околностима кад на васпитање треба гледати као на процес у којем дјеца и одрасли учествују као партнери, подразумијева прије свега развијање осјећаја суодговорности за реализацију васпитних процеса свих његових учес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спонсибилна настава). Да би се таква настава реализовала неопходно је битно промијенити положај дјетета у настави, а код наставника изграђивати, током школовања и перманентним усавршавањем, карактеристике конгруентног стила васпитања. Партнерство дјетета и одраслог је израз мјера нарастања еколошке свијести у нашем врем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088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јелесни развој 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лази до раста у висину у просјеку 5 центиметара годишње, а повећање тјелесне тежине 3 до 3, 5 килограма годишње. Кости дјетета постепено се окоштавају, па његов скелет постаје јачи, чвршћи и издржљиви. Но осификација (окоштавање) још није завршена. 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ој моторике</a:t>
            </a:r>
            <a:r>
              <a:rPr b="1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е већа спретност покрета, стабилност, сигурност хватања, скакања, трчања, пењања, пливања...Они желе да су стално у покрету. Дијете из неограничене активности прелази у фазу вишесатног сједења, што може резултирати лошим тјелесним држањем.</a:t>
            </a:r>
            <a:r>
              <a:rPr b="1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омоторика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усавршава, успоставља се деснорукост  или љеворукост, све сигурније рукује оловком. 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ој осјећаја и опажаја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а повећањем узраста чул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јетљивост је све већа, тако да ће оштрина вида и слуха ускоро након периода средњег дјетињства достићи свој максимум. Све нијансе боја дијете не може да именује, али их успјешно разликује. Успјешно процјењују и просторне односе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жња</a:t>
            </a:r>
            <a:r>
              <a:rPr b="1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е више је намјерна, стабилна и дужа. Са повременим и краћим флуктуацијама оно је у стању да будно прати наставу и да са дневним и ноћним одморима одморима буде активно сваки радни дан у седмици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шта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стаје све бујнија и систематичнија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ој интелиганције </a:t>
            </a: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д дјеце постоје значајне разлике у погледу развијености интелигенције, они се не сналазе подједнако успјешно у свим животним ситуацијама, нити у рјешавању школских задатака.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моционални развој </a:t>
            </a: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ћ у школској доби има већу разноврсност доживљаја и бољу контролу изражавања емоција. Страхови код дјеце у овој доби су чести. Љутње се најчешће испољавају због неуспјеха, понижавања и неправди других према њима. Љутње су релативно краткотрајн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ресовања </a:t>
            </a: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казују интересовања за учење, групни живот, заједништво. Психолошка страживања указују да дјеца у периоду од 6 до 11 година нарочито показују интересовања за цртане филмове, луткарско позориште, бајке, басне...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јални развој </a:t>
            </a: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ивећи у организованим социјалним групама , све више се у раду ослањају једни на друге, гаје симптије, постепено се почињу одвајати од родитеља. Поштују се групна правила. На социјални развој дјетета нарочито утичу п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школа, вршњаци и његово психолошко стање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682560" y="212760"/>
            <a:ext cx="80107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0880" y="380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е у карактеристикама мишљења дјеце и одраслих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је мишљење је</a:t>
            </a:r>
            <a:r>
              <a:rPr b="1" i="1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субјективно (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 је при мишљењу увек везано за конкретну радњу или појаву)</a:t>
            </a:r>
            <a:r>
              <a:rPr b="1" i="1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кцесивно (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 није способно да истовремено прати више дешавања)</a:t>
            </a:r>
            <a:r>
              <a:rPr b="1" i="1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реверзибилно (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 се у мишљењу често држи тока радње)</a:t>
            </a:r>
            <a:r>
              <a:rPr b="0" i="1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sr-B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олистичко (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не обраћа пажњу на детаље 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ијажеу мишљење д</a:t>
            </a:r>
            <a:r>
              <a:rPr b="0" lang="sr-Latn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ета је егоцентрично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0880" y="304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у првом разреду основне школе оств</a:t>
            </a:r>
            <a:r>
              <a:rPr b="0" lang="sr-Latn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и квалитетну интеракцију у којој ће се учење (рад) и игра прожима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временој научној литератури симболичка игра се веже за различите психичке процесе: емоционалне процесе, стваралаштво, симболичку функцију, машту, општи когнитивни развој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ни период – дијете није више предшколац, али још није ни ђак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1295280" y="4267080"/>
            <a:ext cx="6019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BA" sz="2400" spc="-1" strike="noStrike" u="sng">
                <a:solidFill>
                  <a:srgbClr val="ffffff"/>
                </a:solidFill>
                <a:uFillTx/>
                <a:latin typeface="Lucida Sans Unicode"/>
                <a:ea typeface="Arial"/>
              </a:rPr>
              <a:t>„</a:t>
            </a:r>
            <a:r>
              <a:rPr b="0" i="1" lang="sr-BA" sz="2400" spc="-1" strike="noStrike" u="sng">
                <a:solidFill>
                  <a:srgbClr val="ffffff"/>
                </a:solidFill>
                <a:uFillTx/>
                <a:latin typeface="Lucida Sans Unicode"/>
                <a:ea typeface="Arial"/>
              </a:rPr>
              <a:t>Игра представља зону наредног развоја дејтета. У игри је дијете увијек више од свог просјечног узраста, за главу више од самог себе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BA" sz="1400" spc="-1" strike="noStrike" u="sng">
                <a:solidFill>
                  <a:srgbClr val="ffffff"/>
                </a:solidFill>
                <a:uFillTx/>
                <a:latin typeface="Lucida Sans Unicode"/>
              </a:rPr>
              <a:t> </a:t>
            </a:r>
            <a:r>
              <a:rPr b="0" i="1" lang="sr-BA" sz="1400" spc="-1" strike="noStrike">
                <a:solidFill>
                  <a:srgbClr val="ffffff"/>
                </a:solidFill>
                <a:latin typeface="Lucida Sans Unicode"/>
              </a:rPr>
              <a:t>                                                                                                                                          </a:t>
            </a:r>
            <a:r>
              <a:rPr b="0" i="1" lang="sr-BA" sz="1400" spc="-1" strike="noStrike" u="sng">
                <a:solidFill>
                  <a:srgbClr val="ffffff"/>
                </a:solidFill>
                <a:uFillTx/>
                <a:latin typeface="Lucida Sans Unicode"/>
              </a:rPr>
              <a:t>Вигот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јеца се играју из задовољства, игра за њих није забава као за одрасле, већ активност којом задовољавају своје основне потреб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спитно-образовном погледу вриједност игре је у томе што је у стању да привуче и одржи дјечију пажњу на предвиђеним садржајима, као и да их мотивише да потпуно учествују  у одређеним активностим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“водећа активност”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на који дијете мисли у игри је један од основних покретача његовог интелектуалног развој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и механизам васпитно-образовног рада, заснованог на игри, на усвајање правила у игри, садржаја и организације игре у циљу остваривања васпитних и образовних вриједности, али  да се при том очува спонтаност игре која је неопходн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530280" y="-96840"/>
            <a:ext cx="7785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ак школовања је преломна фаза у животу дјетета – мијења се социјално окружење и активност дјетета. Учење је проткано усмјереним игроликим активностима, у намјенски креираној радној средини и атмосфер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утицајем социјалног окружења дијете усваја нове (друштвене) обрасце понашања, међусобних односа и односа према средин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 у првим школским данима дијете се упознаје са новим правилима понашања у школ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533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ак из породичног животног контекста на школски - поступно се остварује у току прве године школовањ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ја рада у првом разреду искључила је класични разредн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н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е избјегла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aдемск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oучавањ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aл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к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алн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ексибилан дневни распоре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јализована радна соба “учионица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ција игр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вање интереса дјеце за активност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нованост напредовања дјеце на “успјеху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 у првом разреду –</a:t>
            </a:r>
            <a:r>
              <a:rPr b="0" lang="sr-Latn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ује се по </a:t>
            </a:r>
            <a:r>
              <a:rPr b="0" lang="sr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делу  активног учења и наставе усмјерене на дијете као цјеловиту личност. 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ење се повезује са претходним знањима и искуствима дјетета, али и интересовањима, што подстиче развој унутарашње мотивације за учешће у активностима и учење.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0" name="Picture Placeholder 7" descr="ucenik-uciteljica.jpg"/>
          <p:cNvPicPr/>
          <p:nvPr/>
        </p:nvPicPr>
        <p:blipFill>
          <a:blip r:embed="rId1"/>
          <a:stretch/>
        </p:blipFill>
        <p:spPr>
          <a:xfrm>
            <a:off x="212760" y="171360"/>
            <a:ext cx="8723160" cy="4424400"/>
          </a:xfrm>
          <a:prstGeom prst="rect">
            <a:avLst/>
          </a:prstGeom>
          <a:ln w="0">
            <a:noFill/>
          </a:ln>
        </p:spPr>
      </p:pic>
      <p:pic>
        <p:nvPicPr>
          <p:cNvPr id="401" name="Title 3" descr=""/>
          <p:cNvPicPr/>
          <p:nvPr/>
        </p:nvPicPr>
        <p:blipFill>
          <a:blip r:embed="rId2"/>
          <a:stretch/>
        </p:blipFill>
        <p:spPr>
          <a:xfrm>
            <a:off x="298440" y="4748040"/>
            <a:ext cx="82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-152280" y="14400"/>
            <a:ext cx="929628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638680" y="228600"/>
            <a:ext cx="3353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И СЕ ПРЕМА ЧОВЈЕКУ ОНАКО КАКАВ ОН ЈЕСТ И ОН ЋЕ ОСТАТИ ТАКАВ. ПОСТУПАЈ ПРЕМА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МУ ОНАКО КАКАВ ОН МОЖЕ  И КАКАВ БИ ТРЕБАО БИТИ И ОН ЋЕ ПОСТАТИ ОНАКАВ КАКАВ МОЖЕ И КАКАВ БИ ТРЕБАО БИТИ.”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TH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"/>
          <p:cNvSpPr/>
          <p:nvPr/>
        </p:nvSpPr>
        <p:spPr>
          <a:xfrm>
            <a:off x="228600" y="864360"/>
            <a:ext cx="81532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РУЧЕНА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А</a:t>
            </a:r>
            <a:r>
              <a:rPr b="0" lang="sr-R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-Нели, Пере</a:t>
            </a:r>
            <a:r>
              <a:rPr b="0" lang="sr-Latn-B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емон.(2004) „Социјална интеракција и интелектуални развој“, Београд: Завод за уџбенике и наставна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ропова, М.В; Кољцова, М.М. (1986). „ Психофизиолошка трелост деце</a:t>
            </a:r>
            <a:r>
              <a:rPr b="0" lang="sr-Latn-B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еоград завод за уџбенике и наставна сред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готски,  Л.(1996).  „Проблеми развоја психе“ IV том  - „Криза седме године“</a:t>
            </a:r>
            <a:r>
              <a:rPr b="0" lang="sr-Latn-B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оград, Завод за издавање уџбеника  и наставних средст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готски,  Л. ( 2005). „Дечја машта и стваралаштво“ Београд, Завод за издавање уџбеника  и наставних средст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налдсон, М. (1997).  „Ум детета“ Београд, Завод за уџбенике и наставна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ран, М.,Плут, Д., Митровић, М.( 1988) „Симболичка игра и стваралаштво“ Београд, Завод за издавање уџбен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опи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гојевић, С. (2002). „Институционални контекст у предшколском васпитању“ Бања Лука : Наша школа бр.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гојевић, С. (2002). „ Карактеристике и последице преласка са причања бајке на гледање цртаног филма“ Београд: Педагогија бр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гојевић, С.( 2005). „ Учење и игра као јединствени процес“  ( У теоријско – изведбени модели педагошких иновација). Бања Лука: Филозофски факул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гојевић, С.( 2005).„ Когнитивни и емотивно вољни домети шестогодишњака  ( У теоријско – изведбени модели педагошких иновација).  Бања Лука: Филозофски факул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533520" y="990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лози радикално указују на нова сазнања о активности мозга, највише у смијеру да се учење догађа индивидуално, да увелико зависи од раног почетк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огодишњаци се налазе на граници на којој се од игре као водеће делатности прелази на учење. Грешку чинимо и ако потценимо могућности и потребе детета, али и ако их преценимо и покушамо учинити  за дете више од оног што је у „ зони његовог наредног развоја“.</a:t>
            </a:r>
            <a:r>
              <a:rPr b="0" lang="sr-Latn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друга грешка је атак на личност детета, на његово самопоуздањ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530280" y="225360"/>
            <a:ext cx="82422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"/>
          <p:cNvSpPr/>
          <p:nvPr/>
        </p:nvSpPr>
        <p:spPr>
          <a:xfrm>
            <a:off x="533520" y="96876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у педагогији сазријева свјест о потреби преласка  са институционалног на отворено васпитање. Вaспитач-учитељ, не сме тежити да раздваја игру и активност (учењ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захтјева васпитача који још увек може да се иг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ње кроз игр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15920" y="-19080"/>
            <a:ext cx="8808840" cy="9399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3"/>
          <p:cNvSpPr/>
          <p:nvPr/>
        </p:nvSpPr>
        <p:spPr>
          <a:xfrm>
            <a:off x="228600" y="11430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лакше се сагледава кроз интеракцијске односе на релацији одрасли- дијете</a:t>
            </a:r>
            <a:r>
              <a:rPr b="0" lang="sr-Latn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304920" y="1996200"/>
            <a:ext cx="853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ебе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радња као фундаментална друштвена потреба де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арадња била успешна неопходно је споразумевање- усаглашавање мишљења.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готс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интеракцијски односи основ за развој самосвије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дјеце, ограничено искуство и интеракција – стварају могућност за појаву специфичних форми психосоцијалног понашања као што су: имитирање, пркос, негативизам, ривалство, љубомора, агресивност, доминантно насупрот интегративном понашању, симпатија, потреба за социјалним одобравањем, потреба за осамљивањем упоредо са потребом за социјалним контактом и сарадњом, идентификација, тврдоглавост, јогунство, стидљивост, поводљивост, конкретан, резон ит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347760" y="450720"/>
            <a:ext cx="8345520" cy="1006560"/>
          </a:xfrm>
          <a:prstGeom prst="rect">
            <a:avLst/>
          </a:prstGeom>
          <a:ln w="0">
            <a:noFill/>
          </a:ln>
        </p:spPr>
      </p:pic>
      <p:sp>
        <p:nvSpPr>
          <p:cNvPr id="383" name="TextBox 3"/>
          <p:cNvSpPr/>
          <p:nvPr/>
        </p:nvSpPr>
        <p:spPr>
          <a:xfrm>
            <a:off x="304920" y="1752480"/>
            <a:ext cx="8305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питање као стваралачко дјеловање је умијеће васпитача, учитеља да усклади особине своје личности са друштвеним улогама које произилазе из формалног и неформалног дијела установе и изгради емоционално топлу, пермисивну средину за дјецу, а да при том у потпуности реализује васпитно образовне задатке. Због тога васпитни поступци дају врло разнолике ефекте код различитих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"/>
          <p:cNvSpPr/>
          <p:nvPr/>
        </p:nvSpPr>
        <p:spPr>
          <a:xfrm>
            <a:off x="228600" y="117216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и формалне и неформалне заједнице сучељавају се у институционалном контексту као омјер нетолерантности и толерантности. Унутар институционалног контекста  нетолерантност се очитава као ауторитативно васпитање засновано на коерцитивности – принудности; а толерантност као пермисивно васпитање засновано на пермисивности – допуштености. Пермисивност није мекоћа или попуштање, већ допуштање да буде слободан, а бити слободан у нашем  времену значи бити одговоран  за своје бивање и суодговоран за друштвене проце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"/>
          <p:cNvSpPr/>
          <p:nvPr/>
        </p:nvSpPr>
        <p:spPr>
          <a:xfrm>
            <a:off x="457200" y="224280"/>
            <a:ext cx="8153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нетолерантност, ни толерантност не искључују доминантност. Доминантност има првенствено психопедагошки извор, тј. чини је синдром црта личности попут асценденције – субмисије, склоности личности да спречава или допушта, предводи или следи (Олпорт), као и властито искуство сваког појединца у погледу комуникације. Издвојили смо осам фактора који објашњавају инетрперсоналне односе на релацији одрасли – дете. Ти фактори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цање доминантности одрас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гидност као извор нетолер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ватање равноправности де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ватање доминантности де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ерантан став одраслог према дјеци заснован је пермисивности као попустљ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380880" y="1076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едшколској установи или у првом разреду основне школе дијете се по први пут сусреће са формално институционалним обликом понашања и постаје члан формалне заједнице која има своју структуру, међутим , дијете није само пасивни посматрач своје околине, већ и субјект, актер свог разво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4T08:56:47Z</dcterms:created>
  <dc:creator>Dajana Gluvic</dc:creator>
  <dc:description/>
  <dc:language>en-US</dc:language>
  <cp:lastModifiedBy>Milica Titelski</cp:lastModifiedBy>
  <dcterms:modified xsi:type="dcterms:W3CDTF">2017-08-29T10:41:33Z</dcterms:modified>
  <cp:revision>82</cp:revision>
  <dc:subject/>
  <dc:title>РЕПУБЛИКА СРПСКА МИНИСТАРСТВО ПРОСВЈЕТЕ И КУЛТУРЕ РЕПУБЛИЧКИ ПЕДАГОШКИ ЗАВОД  САВЈЕТОВАЊЕ ЗА НАСТАВНИКЕ  РАЗРЕДНЕ НАСТАВЕ</dc:title>
</cp:coreProperties>
</file>